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92D0-B45C-4575-A191-5610AA25E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3A4E-51A0-4D84-93AC-3F0F8FFB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83CC-1A14-477A-B265-7EE5796CC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59D0-C958-4BD8-A8C5-D4945876B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264C-416B-4076-8187-547687D2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F126-1B13-4706-954A-D170D6C6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5C13-19CF-4C2B-BB07-3B58644A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98C3-5139-4BF2-BE52-B713A53A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142D-BADE-435E-BE1D-2F4A851C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FEE5-31E7-43A9-9213-6BBC991F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D4CA-D39B-4043-81F5-46007EE2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690D-0AEB-4488-8D86-06C5F552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9AEA-DC6E-43B5-8255-775AECEAB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Me llamo _________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Clase 6NH</a:t>
            </a:r>
            <a:br>
              <a:rPr sz="4000"/>
            </a:b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La fecha es el 4 de mayo del 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54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Juegas fútb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rite 3 sentences about each of the following topics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6 in total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 famili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 ca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ocabulario nue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2514240"/>
            <a:ext cx="1828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equ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405400" y="1295280"/>
            <a:ext cx="2519280" cy="3276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7200" y="3048120"/>
            <a:ext cx="2709720" cy="2819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72200" y="4952880"/>
            <a:ext cx="2362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jug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6095880"/>
            <a:ext cx="2362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La jugad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800240" y="28954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7467480" y="213372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7162920" y="3200040"/>
            <a:ext cx="761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866920" y="380988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772400" y="38862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5028840" y="1447560"/>
            <a:ext cx="10666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4419720" y="220932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2193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 cab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91520" y="1295280"/>
            <a:ext cx="1752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 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(izquier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467480" y="28195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 pi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924680" y="4191120"/>
            <a:ext cx="114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El 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48320" y="41148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 rod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81280" y="27432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 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(derech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19051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El br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10280" y="4495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47242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3341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El bal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466720" cy="1847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5960" y="2057040"/>
            <a:ext cx="380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tablero indic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1295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9907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ta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410080" y="380880"/>
            <a:ext cx="3429000" cy="1557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867280" y="1752480"/>
            <a:ext cx="2590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La porte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04920" y="3276720"/>
            <a:ext cx="2324160" cy="1743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57200" y="502920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port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2819520" y="3048120"/>
            <a:ext cx="2724120" cy="2154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971800" y="53341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espect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5791320"/>
            <a:ext cx="2895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La espectad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6172200" y="274320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095880" y="4724280"/>
            <a:ext cx="2590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campo de fút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320" y="2514600"/>
            <a:ext cx="3809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marc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erb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3123720"/>
            <a:ext cx="62485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gar a…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zar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dar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quear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er un gol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ar un tanto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320" y="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artido-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rimer tiempo-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gundo tiempo-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mpate (empatado)-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tra-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stadio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7632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he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5335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irst ha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914400"/>
            <a:ext cx="3353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econd ha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57600" y="1371600"/>
            <a:ext cx="22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 tie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sco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3124080"/>
            <a:ext cx="3276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To play..</a:t>
            </a:r>
            <a:r>
              <a:rPr b="0" i="1" lang="es-ES_tradnl" sz="2800" spc="-1" strike="noStrike">
                <a:solidFill>
                  <a:srgbClr val="333399"/>
                </a:solidFill>
                <a:latin typeface="Arial"/>
              </a:rPr>
              <a:t>(a spo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05120" y="3733920"/>
            <a:ext cx="3124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To throw/ to k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43434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To gu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48769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To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5486400"/>
            <a:ext cx="3505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To score a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81280" y="6095880"/>
            <a:ext cx="3276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To score a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1752480"/>
            <a:ext cx="2286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gain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2209680"/>
            <a:ext cx="2286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ta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5228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r p. 3; en voz alt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4 (1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istorieta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4 (1-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p.1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3352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5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18:38:52Z</dcterms:created>
  <dc:creator>Helen Zumaeta</dc:creator>
  <dc:description/>
  <dc:language>en-US</dc:language>
  <cp:lastModifiedBy>Helen Zumaeta</cp:lastModifiedBy>
  <dcterms:modified xsi:type="dcterms:W3CDTF">2012-05-04T16:48:04Z</dcterms:modified>
  <cp:revision>21</cp:revision>
  <dc:subject/>
  <dc:title>Me llamo _________        Clase 7 IM La fecha es el 4 de noviembre del 2010</dc:title>
</cp:coreProperties>
</file>